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902-D801-42AC-B69B-23D2B6FA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55B-D016-416D-A647-54CDB1A9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5E5-57FB-4795-AA5E-8B083F3F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B96-EAAC-4E9E-B899-A614DA16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200-F664-493B-9424-114E6A2E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866-F0AC-4FB7-956F-C711AD16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B79-36E5-4CD6-9E7D-86D38DE5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493-F690-4CBD-A157-19992039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7A7-82F8-4C8A-B100-AF43AB45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C69-13E0-4C53-BC7D-7C5364CE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403-6153-4C70-8677-AEFCEFB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1AA-3F36-44AC-9CE9-142BB2E2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DF9C-288B-48A5-8914-66C7745BD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«Организация внешнеэкономической деятель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500040" y="207180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ма: Основы делового прото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2. Протокольные приемы во внешнеэкономическ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357120" y="1571760"/>
            <a:ext cx="8358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сторически сложилось так, что приемы играют важную роль в развитии деловых контактов. При этом необходимо подчеркнуть, что основным содержанием приемов является не прием пищи и не дегустация напитков. Приемы носят деловой характер, они проводятся с целью углубления и расширения контактов, получения нужной информации в неофициальной обстановке. К беседам на приеме надо тщательно готовиться: подумать, с кем и о чем поговорить, с кем познакомиться, кого представить, и т.д.      Нужно быть готовым к ответам на возможные вопросы собеседников, которые также заинтересованы в получени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Многолетняя международная практика установила виды приемов, методы их подготовки, этикет, которого придерживаются участники приемов, проводимых внешнеторговыми организациями и фирмами в честь коллег из други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285840" y="500040"/>
            <a:ext cx="8572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Условно типы протокольных мероприятий в практике внешнеэкономической деятельности можно разделить на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официальные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и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неофициальные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Приемы можно также разделить на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дневные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и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вечерние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коктейли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и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фуршеты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К дневным относятся приемы "Бокал вина", или "Бокал шампанского", и "Завтрак". Все остальные приемы относятся к вечерним. К приемам с рассадкой за столом можно отнести такие, как "Завтрак", "Обед", "Ужин". Согласно международной практике наиболее почетными по своему характеру видами приемов являются приемы "Завтрак" и "Обед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Международная практика кроме организации торжественных приемов позволяет устраивать встречи и в менее официальной обстановке — за чайным или кофейным столом. Такие маленькие приемы проводят с деловыми людь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85840" y="142920"/>
            <a:ext cx="864396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ешая вопрос организации приема, необходимо принимать во внимание следующе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выбор вида прием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составление списка приглашаемых на прием (с учетом субординации, пола, языка, членов семьи и т.п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способ рассылки приглашений, порядок рассадки за столом (почетный гость — справа от хозяина, дама — всегда справа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составление меню (с учетом национальных особенностей приглашенных), подготовку помещения для приема, цветов, обслуживания, тостов, разработку программы проведения прие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Как правило, любое протокольное мероприятие начинается с получения (или направления) приглашения. В приглашении четко указывается, кто организует данное мероприятие (т.е. от чьего имени оно дается), в связи с чем, где и в какое время оно проводится, кто лично приглашается на мероприят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е принято передавать приглашение другому лицу, но если это необходимо, то следует заранее оповестить об этом устроителей мероприят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357120" y="196920"/>
            <a:ext cx="842976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 приемы типа "Обед" и "Завтрак" приглашения необходимо рассылать по крайней мере за полторы-две недели. При соблюдении этого условия будет, во-первых, больше шансов заполучить тех лиц, присутствие которых на приеме желательно, во-вторых, возможность, если кто-либо откажется, заменить его другим лиц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 приглашение правильнее ответить письмом или открыткой, а не визитной карточкой. В некоторых странах ответ визитной карточкой расценивается как бестакт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00"/>
                </a:solidFill>
                <a:latin typeface="Book Antiqua"/>
              </a:rPr>
              <a:t>Одежда участников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Требования к одежде участников внешнеэкономических приемов более демократичные, чем к одежде участников дипломатических приемов. Однако для любого приема необходимы однотонный костюм, однотонная рубашка и темные закрытые туфли. Галстук обязател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00"/>
                </a:solidFill>
                <a:latin typeface="Book Antiqua"/>
              </a:rPr>
              <a:t>Визитные карточки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Коммерсанты всегда должны иметь при себе визитные карточки. На визитной карточке обязательно указывают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фамилия, имя, отчество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должность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именование организ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214200" y="142920"/>
            <a:ext cx="8715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ее адрес, телекс, телефак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телефон, по которому действительно можно установить контакт с владельцем карточ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если у предприятия есть свой фирменный знак, то целесообразно дать его в визитной карточ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желательно иметь визитную карточку двустороннюю, т.е. одна сторона — на русском языке, вторая — на иностранном. Можно иметь карточ­ки двух видов — на родном языке, а также на английском или каком-либо другом в зависимости от необходимости. Тогда на другой, чистой стороне можно делать какие-либо запи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размер визитной карточки желательно иметь стандар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Визитные карточки никогда не подписываются и дата не проставляется. Они используются в следующих случаях: поздравление, выражение соболезнования, благодарность, отъезд из страны представления, при перемене адреса. Ими также обмениваются при знакомстве, с визитными карточками пересылаются подарки, цветы, альбомы, книги, газеты журналы, билеты в театр, фотографии и т.д. Иногда их посылают вместо письма, выражающего благодарность за приглашение на какое-либо меропри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85840" y="142920"/>
            <a:ext cx="850104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о время протокольных мероприятий надо использовать возмож­ность ближе познакомиться с партнерами, выяснить их хобби, интересы, семейное положение, положение на фирме и др., что может оказаться впоследствии полезным на переговорах для создания непринужденной, дружественной атмосфе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екомендуется к приему подготовиться заранее, продумать вопросы, которые следует обсудить, решить, какую информацию — коммерческую или личную — желательно получить. Если на прием приглашается группа сотрудников, можно предварительно распределить вопросы, которые необходимо выяснить в процессе общения каждому участник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е стоит превращать прием только в переговоры, целесообразно помимо рабочих тем обсуждать и другие, нейтральные те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е принято в ходе протокольных мероприятий вести жесткие, решающие переговоры по ценам и условиям контракта, не согласованным ранее, в ходе переговоров. Совсем нетактично вести такие переговоры после употребления спиртных напит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285840" y="214200"/>
            <a:ext cx="850104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екомендации, связанные с протоколом, касаются и отдельных моментов поведения коммерсанта по отношению к партнер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 встречах, переговорах и приемах следует соблюдать правила, установленные организаторами встречи в отношении кур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риветствуя иностранного партнера, необходимо учитывать его наци­ональные особен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ри знакомстве с партнером следует внимательно прочитать врученную им визитную карточк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е всегда следует преподносить партнерам-женщинам цве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тщательно относитесь к преподнесению подарков, сувенир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 приемах тост произносится обычно только в начале, максимум еще один в конце мероприя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рганизуя встречу с иностранными партнерами, следует продумать и культурную программу, при ее выборе нужно учитывать интересы прибывших коммерса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3. Работы протокольной служ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85840" y="928800"/>
            <a:ext cx="8358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К обязанностям протокольной службы относится прежде всего организация протокольных мероприятий, о которых говорилось выше. Однако кроме этого на протокольную службу возлагаются и другие задач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едение картотеки по фирмам-партнера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беспечение работников фирмы визитными карточкам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формление записей бесед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формление и поддержание порядка в комнате переговор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олучение приглашений сотрудникам фирмы на приемы и другие протокольные мероприятия и подготовка предложений для утверждения руководством списка участник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одготовка для руководства проектов поздравительных писем и телеграмм партнерам по случаю памятных дат и ответов-благодарностей на такие поздравл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рганизация встреч и проводов представителей фирм, посещающих предприят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285840" y="28584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аботники протокольной службы должны отвечать следующим требования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ладеть иностранным язык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быть коммуникабельными, обязательными, вежливыми,  дисциплинированным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иметь соответствующий внешний вид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знать основы протокола и особенности протокола разных стра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4. Деловой этик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85840" y="128592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Современный этикет наследует обычаи и традиции практически всех народов от древних времен до наших дней. Правила этикета в основе своей являются международными, поскольку соблюдаются более или менее одинаково во всех странах. Одновременно этикет каждой страны может иметь свои и довольно существенные особенности, что обусловлено историческими, национальными, религиозными и другими традициями и обыча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Этикет имеет практическое значение, которое состоит в том, что он дает возможность людям без особых усилий использовать уже готовые формы общепринятой вежливости для общ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Содержание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. Деловой прото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2. Протокольные приемы во внешнеэконом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3. Работы протокольной служ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4. Деловой этик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42920" y="89280"/>
            <a:ext cx="885816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Основы этикета можно свести к следующем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Культура речи, которая предполагает не только ее грамматическую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и стилистическую правильность, но и отсутствие вульгарных сл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Элементарная вежливость как непременная черта этикета предполагает умение здороваться, прощаться, благодари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Недопущение грубости и хамства во всех их проявлениях. Приветствия по старшинству, соблюдение табели о рангах и положении. Учет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национальных особенностей приветств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Сдержанность, недопустимость развязности, панибратства, самообладание в трудных ситуац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Уважение к собеседнику, недопустимость высокомерия, похвальбы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собой или страной. Скромность в одежде, поведении и высказыван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Мягкость манер, умение спорить, не задевая чувства достоинства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собеседника. Недопустимость в споре давления чужим авторитетом. Терпимость к иному мнению собеседника. Умение признавать свои ошибки, быть самокритич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Готовность и умение во что бы то ни стало сдержать слово, обещание, при любых обстоятельствах выполнить взятое на себя обязательств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рядочность,  справедливость,  благожелательное  отношение   к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дчиненным.  Строгость, требовательность к себе и другим. Умение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брать на себя реш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1. Деловой проток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357120" y="142884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ри проведении переговоров с зарубежными партнерами возникают вопросы не только коммерческого, но и организационно-протокольного характера. Решить такие вопросы помогает знание основ делового про­токола и грамотное планирование переговор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ланирование переговоров является важнейшим элементом их подготовки. План должен с максимальной полнотой охватывать интересующие вопросы. Разработка плана переговоров проводится индивидуально в зависимости от того, кто проводит переговоры и какие темы предполагается обсудить. Как правило, план переговоров содержит следующие данные: дату, время и место переговоров; состав участников; основные вопросы для обсуждения с собеседниками; лиц, ответственных за протокольные вопросы, характер приема после переговор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214200" y="357120"/>
            <a:ext cx="8715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Уровень лиц, участвующих в переговорах, и их компетентность являются решающим фактором при обсуждении принципиальных вопросов. Поэтому до переговоров надо выяснить организационную структуру фирмы, положение и компетенцию прибывающих на переговоры представителей иностранной фирмы. В зависимости от уровня (положения) участников переговоров определяется и круг обсуждаемых во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Другая сторона заблаговременно извещается о вопросах, которые планируется обсудить на перего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Любые переговоры должны быть ограничены по продолжительности, о чем своевременно уведомляется вторая сторона. Нелимитированные переговоры могут свидетельствовать о неподготовленности и професси­ональной слабости коммерсанта, о неуважении инициатора переговоров к своему партн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Назначая время переговоров, следует иметь в виду весьма распро­страненное правило: если завершение переговоров планируется в середине дня, то иностранный партнер может предполагать, что его пригласят на завтрак (ленч), если позже 18 ч — то на об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85840" y="214200"/>
            <a:ext cx="857232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Деловые переговоры проводят, как правило, руководители фирм или подразделений. В отдельных случаях это могут делать оперативные работники организации. Должностной уровень работников, ведущих переговоры, зависит от уровня представительства иностранного партнера и от целей переговоров. Так, генеральный директор фирмы (президент) обычно ведет переговоры по стратегическим вопросам сотрудничества, подписывает самые важные соглашения и наиболее крупные контрак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ри обсуждении более узкого круга вопросов в качестве ведущего на переговорах может присутствовать заместитель генерального директора (вице-президент) либо директор фирмы (проекта). Если же предметом переговоров являются текущие вопросы, связанные с исполнением контрактных обязательств, то ведущим переговоры может быть ведущий специалист (эксперт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Если содержание обсуждаемых вопросов не требует непосредственного участия в переговорах высшего руководства, допускается их приход на переговоры на короткий срок с протокольными целями — поприветство­вать представителей фирмы и пожелать успеха в переговора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14200" y="1429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ереговоры должны проводиться в отдельном помещении, которое не является постоянным местом нахождения участников. Участники переговоров от принимающей стороны должны быть в комнате для переговоров до прихода туда представителей второ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нимающая сторона радушно встречает своих гостей, глава делегации должен представить своих коллег — участников переговоров по фамилиям и занимаемым ими должностям, включая приглашенных на переговоры представителей других организаций. Затем представляет сво­их коллег руководитель второй стороны, после чего принимающий при­глашает гостей занять место за столом переговоров. Традиционно гости занимают место лицом к окну, спиной к дв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осле того как участники займут места за столом переговоров, доступ в комнату встречи должен быть прекращен, за исключением дополнительно приглашаемых, что нежелательно. Если принимающий все же сочтет необходимым пригласить дополнительно своих коллег, он дол­жен извиниться, прервать переговоры, представить вновь прибывших, кратко проинформировать их о содержании беседы и возобновить перегов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357120" y="214200"/>
            <a:ext cx="86439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ереговоры ведет один работник, старший по должности. В случае необходимости он консультируется с другими участниками, занимающимися отдельными вопросами, и может предоставить им возможность высказать свою позицию. Нерегулируемое обсуждение вопросов на переговорах недопустим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о время сложных переговоров иностранная сторона может изъявить желание сделать перерыв для обсуждения своей позиции. Принимающая сторона должна в таком случае предоставить гостям условия для конфи­денциального обмена мнени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 ходе переговоров участники делают собственные пометки, фиксирующие поступающие предложения, их изменения и обсуждаемые вопросы. Кроме того, обычно принимающая сторона назначает одного из своих коллег для ведения подробной записи переговоров. Использование технических средств записи на переговорах принято не всюду, и партнер может воспринять это как недоверие к нем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Завершение переговоров, даже если они не оправдали всех ваших надежд, желательно проводить в положительных тон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285840" y="214200"/>
            <a:ext cx="83581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абочие записи по ходу переговоров должны строго соответствовать содержанию беседы. В то же время официальная запись беседы помимо фактов, относящихся к обсуждаемым вопросам, может содержать некоторые психологические детали проведенных переговоров: жесты, реплики, обмен мнениями между собой и т. п., а также вашу оценку эт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Запись беседы является очень важным документом и должна быть сделана тщательно. На основании этих документов не только принимаются решения по оперативным вопросам, но и могут разрабатываться и утверждаться перспективные планы, связанные со значительными затрат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Такие же требования должны предъявляться к записям переговоров по телефон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 записях бесед должны отражаться все факты и информация, относящиеся к характеристике рыночной конъюнктуры и торгово-политических условий соответствующей стран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357120" y="428760"/>
            <a:ext cx="8286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ряду с записью беседы после завершения переговоров участники обычно пополняют досье на фирму-партнера, составив справку о сведениях, полученных в ходе беседы. Целесообразно отметить степень заинтересованности фирмы в стабильных экономических связях, цели такого сотрудничества и ожидаемые фирмой перспективы, личное отношение представителей фирмы к сотрудничеству с вашей организацией. Следует отметить манеру ведения переговоров: твердость при обсуждении условий контракта, уровень предоставляемых скидок, склонность к компромиссам, позицию при рассмотрении и урегулировании претензий и спорных вопросов. Изучения и фиксации заслуживают и личные характеристики представителей фирмы, их психологические и профессиональные особен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Хорошо налаженная протокольная работа является одним из факторов, способствующих повышению эффективности деятельности фирмы на внешних рынк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29:09Z</dcterms:created>
  <dc:creator>Пользователь</dc:creator>
  <dc:description/>
  <dc:language>en-US</dc:language>
  <cp:lastModifiedBy>Компьютер</cp:lastModifiedBy>
  <dcterms:modified xsi:type="dcterms:W3CDTF">2012-05-27T15:03:01Z</dcterms:modified>
  <cp:revision>13</cp:revision>
  <dc:subject/>
  <dc:title>Презентация по предмету  «Организация внешнеэкономической деятельности»</dc:title>
</cp:coreProperties>
</file>